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6D4-CBAA-404E-9D6A-F628740A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AC0-7531-40D4-8F23-F7C31CC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55C-24EA-44C7-8770-AE4F143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A6E-136C-4798-AC1C-56364640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1C6-5BA7-4383-90B0-E73643C0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BC-23D4-46CE-B9B2-D61FBBA0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118-DB2F-449C-9D20-FF81C0D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20D-84BE-4C32-B8E7-7622BC4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921-6D0D-409F-ACE0-D8E1BBB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25C-129D-4152-83EA-2DCDBA8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52F-B2F0-408E-A0BF-4B3AA51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B2B-55A3-419A-9B3D-BE69770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2084-E1F3-4BAE-9435-FA8330CE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 Speci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radians, tell what the degree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degrees, tell what the radian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158920" y="2075040"/>
          <a:ext cx="24177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2075040"/>
                    <a:ext cx="24177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1-22T20:35:27Z</dcterms:modified>
  <cp:revision>4</cp:revision>
  <dc:subject/>
  <dc:title>Slide 1</dc:title>
</cp:coreProperties>
</file>